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37A7-3F6B-45FC-B083-256FA607926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FA2B-CA79-4D92-A207-77B237F497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059C-217A-4B6D-9011-C5546CCCC9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ECD3-EDF8-4EAB-BE3F-687C0981A7A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F194-9679-44CA-808D-021E22865C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5F66-3ACB-4577-AE6C-FEFBD6983D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B0B3-88F6-41E1-ACF2-D348772402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F014-4635-44D9-B3AE-74DAB22D128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F336-E15E-4403-8EB3-B6251F16047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332B-90FE-49F4-B9D9-3F55C584FD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B8B9-12F6-4D75-B8F4-35FEA257D6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B2A57-4F25-49FB-821F-58CFFB56424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AF18A75-82BA-4A59-9F2D-B398B50052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095DD86-9B8C-4A4A-A192-5C1CA0C662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465642B-52A3-4752-B40D-0C6E82D10E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2A9E3DE-0568-4821-AA6E-31F3F4DE27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F8C9FCB-D755-42A2-8074-DD62E0188A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49057B8-55E1-41F5-BA65-B6EBA053CF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A6CAF6C-9D66-4187-AAE2-6826EA7E19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351B7B-EA59-4016-B300-A32EBB2273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BDE7A6E-4733-449E-B82D-6CD3E26281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B7543C-242D-47E1-A4C1-E4A29AD9EF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FD779C1-AC4D-45A6-9B43-E237A2F3AA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4D172B7-57CF-4D43-A985-283C5C5235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AD85-E37D-4123-8959-4E0411FD868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2861-A0D1-4375-8EDE-C8C229A9FD8A}"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A659-8FDE-4B30-B537-DFD8CE85FAD3}"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8D90-1FB9-4CB3-984C-B9B6A4F93E98}"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728A-B213-403A-9CE2-C6B3A8D7EEEE}"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1928-5B7C-4485-A8A9-3EC6CCE50B91}"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739F-CCF3-4745-8716-A6E446E38447}"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680" y="3390120"/>
              <a:ext cx="91476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432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680"/>
            <a:ext cx="5249160" cy="2797560"/>
            <a:chOff x="837360" y="2704680"/>
            <a:chExt cx="5249160" cy="279756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96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4T18:31:28Z</dcterms:modified>
  <cp:revision>177</cp:revision>
  <dc:subject/>
  <dc:title>Slide 1</dc:title>
</cp:coreProperties>
</file>