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9580-0963-4968-83BD-4916007ECAC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5740-DA86-4F4F-B9CD-FAFB5BE5C28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6A66-1FE2-4E10-BF11-BA330AE7429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545A-337D-4B81-BF50-D2FCA295F8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1EF6-4CF6-4A9A-91AB-018CF87E77C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E996-BC89-4375-9A20-8AD024F120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0B98-1ADA-4F8F-A3F0-FD739056440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8571-474D-41DE-AA5B-63F7E85B09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BDF4-3C22-41A5-B117-F484B3E0BD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F0D4-3D2B-46FC-8090-A67C82FCEC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C025-173C-4C96-9D34-F45D3554C4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7780-0987-4CDA-A0D8-42C883E3B4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B448702-92D3-4ECD-99E8-BE0A3EE5E9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E0B3751-D997-4CE4-B18D-2AB6BFBB7B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A8A47BE-E0B5-45BC-9E1E-45DC3DBF20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A32D47F-CF35-40CF-BC64-A08FF10AFF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C5877D-15B0-4604-B003-B26A129D2B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E1954B-F192-48CF-9600-4E6FD94EC9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757725E-D459-4122-8C7B-73E9DF3E58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DF2C61B-AC5E-4774-B194-5156A0E1A9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6202331-E527-4ACC-9754-C0FDFB3787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3CE81A-9CED-4D8E-9AE8-66DE3F33AA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A3255B0-1970-4BF3-AEFC-479A55E295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23E762E-5700-4C63-B1D2-DB00C0F820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7910-1C37-477A-9EEB-F26A6FE16D84}"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596B-7868-4768-A8AD-04DCC2BD38A7}"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9B1B-C8F2-41AF-9427-62E74923BEC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972D-EA41-4EEF-8035-5CDC97E9859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7834-1529-4E01-8550-D409049AE61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AA79-1DEB-472B-B13B-B1AB10067FB2}"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4893-EB33-4504-AD92-CEFF37ABF97B}"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680" y="3390120"/>
              <a:ext cx="91476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432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680"/>
            <a:ext cx="5249160" cy="2797560"/>
            <a:chOff x="837360" y="2704680"/>
            <a:chExt cx="5249160" cy="279756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96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4T18:31:28Z</dcterms:modified>
  <cp:revision>177</cp:revision>
  <dc:subject/>
  <dc:title>Slide 1</dc:title>
</cp:coreProperties>
</file>