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E899-BB44-4C43-BB40-C3718FA4A80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E3D1-5124-41E5-A25E-B3C87949A0D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4B1F-429D-4364-9DA7-BD83FBAD45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17C0-F77A-44FD-8F78-93CD9026169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235C-DC11-4E09-82B7-9A7C4D5B52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5289-A9A9-47B9-94C9-CFE4561EFE9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89B2-DA9F-4F07-9EB2-9DFC51C2BC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2A8B-E361-4440-9516-1CFF4D501D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7138-44C5-4353-8F8E-7B18F9F249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4913-68A0-4451-947E-FF480BC483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CDCC-FDC2-4381-AC37-86B8E78A14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7A16-6103-448F-8136-A9EDFA9C75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A5A1CD7-46FA-4DF8-8576-DB48C7C5B9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7F2EEE0-C024-441E-8879-462E5146C0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D072C8E-9AA9-4B6E-8FBE-D315891805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E451E95-B1AA-4808-818A-8948F12154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6008F0E-1C23-4847-94A1-0A641FFB62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666B84E-8AE5-49A1-B76D-990D44D783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850429-639C-4DCC-93C1-4B2A8D319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3CB4E04-93BE-48B1-8801-E23AA73053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ACA9EB-BB05-48CD-82F8-71A0F2FE9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C8B642-5C3C-4147-BA1F-8CDFEA6B74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8FB732-0D51-4A3A-9CD5-114D84283C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9241BD-825C-4511-9CC5-3EF8845E36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BB11-C37A-4092-B572-E672B59CE74D}"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5441-915E-4699-AF5F-ACA32F7507E9}"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146F-754C-41FE-9FA4-8412487617C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9D65-0A9F-44DC-A0AE-489CE43F04C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A455-7755-430B-BC86-0CD3F6F76F9E}"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921CC-FDC3-43C7-ACCD-22BB3D12D56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21BD-9FCF-4034-A6B8-638E1CBB1FFF}"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320" y="3390840"/>
              <a:ext cx="91512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5400" y="130392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88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16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5200"/>
              <a:ext cx="144648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6480" cy="97164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320"/>
            <a:ext cx="5249160" cy="2797920"/>
            <a:chOff x="837360" y="2704320"/>
            <a:chExt cx="5249160" cy="279792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60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5T22:44:04Z</dcterms:modified>
  <cp:revision>177</cp:revision>
  <dc:subject/>
  <dc:title>Slide 1</dc:title>
</cp:coreProperties>
</file>