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0E9B-23B9-4CF8-9DE2-F2ACF43414C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DB81-16AB-41E8-83A2-BC9DA7C363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E584-7848-4487-B88D-B9B73A04252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C314-E4D9-48C8-9AF3-CB6261D37F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36D8-3F90-4DE2-B78A-1359E35F725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A7CE-9B80-49D7-8EA4-571E8DC856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F134-1D30-4609-9B54-E43CC41466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6376-5F44-4E94-B188-97D70CEEAE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5041-D01A-498B-A433-DB5C37512C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C5EB-10FA-4994-8BBB-92716D73CD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D6AB-938B-4BFA-923D-98FBA17DA1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FCC1-6D1D-454A-BD78-AD192192CB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6D2B9F-BA71-4E82-BA59-777DB6E8E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E441655-1C90-4BB9-981B-E1931EBCEB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D7D7DC3-EE50-4000-93E0-2635BDC1F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8EB0073-E589-4DAB-A4CB-B7F5C3D2F4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B88F11-772F-46A4-A7E6-0993322944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36E842-F299-4895-A1CD-DD796360FA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710F69-776E-4C5D-B91A-2E819F1B7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67D5917-3FAF-4775-B205-506066AB2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BCD9D8A-6509-4CD9-9E7D-78F5DA6F10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A6F26B4-9A35-4729-A61E-8A5B1B6F22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DBF097-438C-43C9-BDF3-9430354252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596147-09B4-4625-919F-334EEDF52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B938-1FF2-4681-ADEB-BD21A5F98E6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1E21-3FE2-4A09-8E41-C2C42615D161}"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1CA1-9AF6-4BCA-87B3-A6A692741A7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9FC5-3361-4AD8-AF37-08E0544439C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8C88-FEAA-465B-8BA5-39929F108552}"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DF9F-BD78-4FA3-9DE3-45ACF9F71CE8}"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36D2-93C0-4D99-A45C-FBBD4D625FD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320" y="3390840"/>
              <a:ext cx="91512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5400" y="130392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88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16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320"/>
            <a:ext cx="5249160" cy="2797920"/>
            <a:chOff x="837360" y="2704320"/>
            <a:chExt cx="5249160" cy="279792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60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5T22:44:04Z</dcterms:modified>
  <cp:revision>177</cp:revision>
  <dc:subject/>
  <dc:title>Slide 1</dc:title>
</cp:coreProperties>
</file>