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C4C9-D399-4454-99F2-858F092A1C0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AB66-14FC-4FDF-AA02-2C7835AF61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25F0-DE27-4587-B73D-97C83EF7979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50AC-4461-457A-A6F6-BAF6DC759BC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FB8E-CCF2-497A-8C8D-F012721C57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9F3A-BC68-40A4-A73F-665518D8E06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8FD6-B481-49EC-8EA3-A445E77D3F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1DD3-0791-4497-8C9C-4BF988C933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5F1B-499E-44BC-834C-FF6F4553E5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2E38-54B0-4FCD-813D-3BDCBA38186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7898-3F96-4CAF-9930-FB142C22E2F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BB61-C8BC-445C-B7A8-9EACC61294A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E8964AA-F2D3-4B16-BC9C-19A6F37A1D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03EB12D-15A2-4D06-A216-5622EAD69B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AE8110F-A2A9-4318-B016-A2C6824946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EEEA259-41B6-4178-9658-54D7068112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4A622B0-C813-46FA-8AA3-0717CB04FB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3053817-D11D-4BF7-BC0F-96754C856E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4751259-8CBC-45A0-92C2-771B5ECAF0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CA62282-7519-4F3D-8EB1-EA9401654F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4572AAD-D62A-40BE-B5AE-FC1685FA96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F374CD6-27C4-4D3B-A155-1579F492F8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99134B-14FC-4FB8-83AE-7F50B5DF4F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24680C-99EF-4BA1-A3B2-636225C70C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2134-B7B3-480D-AAE6-360CE1FC9091}"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C98A-3C4A-4D19-A164-18EC323CC13B}"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F3D8-BB17-48D6-BEB0-C8F0E79912FB}"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8DB1-4D1F-4899-A4B2-DE7AC7A72CBC}"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941E5-2BC5-424A-9DA1-C0C3D245A332}"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6AA7-3A8A-498B-B6DA-D4F5066E6009}"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28FA-A520-4B68-B55C-27CB50DB939F}"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320" y="3390840"/>
              <a:ext cx="91512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5400" y="130392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88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16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320"/>
            <a:ext cx="5249160" cy="2797920"/>
            <a:chOff x="837360" y="2704320"/>
            <a:chExt cx="5249160" cy="279792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60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5T22:44:04Z</dcterms:modified>
  <cp:revision>177</cp:revision>
  <dc:subject/>
  <dc:title>Slide 1</dc:title>
</cp:coreProperties>
</file>