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37B9-2187-48D3-A179-04837CFFEA0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4082-FB21-473D-926B-D93326398F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D354-C431-4671-A2AD-E48EEB55C15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F12A-5A41-4636-99E1-4616E16A245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2A07-FCF0-421B-91FA-DA0E529208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9318-08F1-4F69-BCE3-F3AEA8C44D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D028-CDE8-4243-A89C-04EC26DB36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4A36-E352-4726-BF34-C8D72CBBE7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3020-2727-4E24-8DF0-C242C73F55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9512-83E6-47FA-8A7A-73B62C65176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80F1-90F3-4E11-BA52-BC4C4A4C2BD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1C93-C011-4E3C-958A-9BA55E3FB4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AEEA1B6-8019-4406-A5FE-A3CF6AA924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6720D85-BA09-411B-B1F6-E9D1094CDE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09736B6-43A9-4DC9-9702-5684642F3A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F935B2B-A702-4DFC-8F32-64A70012D1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0AAFB4B-E99B-4F29-8BF7-B5054DD21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D08A353-609A-4C60-8F75-E930A8D3AA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3754613-6B48-4205-9C86-369757718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4029ED9-A658-4476-ADAF-7423DC322B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9531495-F5A9-4AD1-9F92-263BE74A66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1141DD-B5D1-41E9-B720-4C84678055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AE7F5A-093D-493E-BC44-96AB8F7AAD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D67010-237D-42D1-96A0-01B450829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6805-79A1-4B4A-8B06-F0956AA41D5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2ACD-349B-4092-A1CA-36D83DC06DA7}"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2EC6-D5C0-48C9-8961-59B7E6AC8D1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4C6C-C1EF-4D6B-98FF-5FD564F4C108}"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8873-89F8-4D88-A826-CE86E546D9E0}"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C48F-ED5D-47A9-AF88-412FCD9AC7E0}"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43D5-1582-4B80-B016-51BDCAA6922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320" y="3390840"/>
              <a:ext cx="91512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5400" y="130392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88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16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320"/>
            <a:ext cx="5249160" cy="2797920"/>
            <a:chOff x="837360" y="2704320"/>
            <a:chExt cx="5249160" cy="279792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60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5T22:44:04Z</dcterms:modified>
  <cp:revision>177</cp:revision>
  <dc:subject/>
  <dc:title>Slide 1</dc:title>
</cp:coreProperties>
</file>