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7a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7a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7a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7a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7a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7a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7a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7a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7a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7a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7a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7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7a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7a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7a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7a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7a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7a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7a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7a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7a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7a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7a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7a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7a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7a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7a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7a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7a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7a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7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7a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7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7a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7a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7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7a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7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7a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7a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traight Connector 2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76320">
            <a:solidFill>
              <a:srgbClr val="9939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0" y="6553080"/>
            <a:ext cx="63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come Monitoring and Evaluation Using LQAS: Module 5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Kenya_Pattern5.jpg"/>
          <p:cNvPicPr/>
          <p:nvPr/>
        </p:nvPicPr>
        <p:blipFill>
          <a:blip r:embed="rId2"/>
          <a:stretch/>
        </p:blipFill>
        <p:spPr>
          <a:xfrm>
            <a:off x="7848720" y="152280"/>
            <a:ext cx="1128600" cy="11527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7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7a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7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7a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7a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7ab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67a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0" y="365760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e 5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ing Decisions, Logistics, and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Kenya_Pattern bckgrd slide cov.jpg"/>
          <p:cNvPicPr/>
          <p:nvPr/>
        </p:nvPicPr>
        <p:blipFill>
          <a:blip r:embed="rId1"/>
          <a:stretch/>
        </p:blipFill>
        <p:spPr>
          <a:xfrm>
            <a:off x="152280" y="1371600"/>
            <a:ext cx="8837640" cy="17780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0" y="14475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Outcome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Monitoring and Evaluation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Using LQAS</a:t>
            </a:r>
            <a:endParaRPr b="1" lang="en-US" sz="3400" spc="-1" strike="noStrike">
              <a:solidFill>
                <a:srgbClr val="0067a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99393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ous sample-size options when conducting LQ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393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393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ritical logistical issues that must be addressed in conducting population-based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393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393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s of a report of a baseline and/or routine M&amp;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939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ule 5: Objectives</a:t>
            </a:r>
            <a:endParaRPr b="1" lang="en-US" sz="3200" spc="-1" strike="noStrike">
              <a:solidFill>
                <a:srgbClr val="0067ab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772400" y="6583320"/>
            <a:ext cx="12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108160"/>
            <a:ext cx="894096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937"/>
                </a:solidFill>
                <a:latin typeface="Arial"/>
              </a:rPr>
              <a:t>Number of Supervision Areas </a:t>
            </a:r>
            <a:br>
              <a:rPr sz="3600"/>
            </a:br>
            <a:r>
              <a:rPr b="1" lang="en-US" sz="3600" spc="-1" strike="noStrike">
                <a:solidFill>
                  <a:srgbClr val="993937"/>
                </a:solidFill>
                <a:latin typeface="Arial"/>
              </a:rPr>
              <a:t>and Sampling</a:t>
            </a:r>
            <a:endParaRPr b="1" lang="en-US" sz="3600" spc="-1" strike="noStrike">
              <a:solidFill>
                <a:srgbClr val="0067a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luence of Number of SAs on Program-Level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imate Preci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ssuming a sample size of 19 per SA)</a:t>
            </a:r>
            <a:endParaRPr b="1" lang="en-US" sz="1600" spc="-1" strike="noStrike">
              <a:solidFill>
                <a:srgbClr val="0067ab"/>
              </a:solidFill>
              <a:latin typeface="Arial"/>
            </a:endParaRPr>
          </a:p>
        </p:txBody>
      </p:sp>
      <p:pic>
        <p:nvPicPr>
          <p:cNvPr id="123" name="Picture 7" descr="Samples 5 SA"/>
          <p:cNvPicPr/>
          <p:nvPr/>
        </p:nvPicPr>
        <p:blipFill>
          <a:blip r:embed="rId1"/>
          <a:stretch/>
        </p:blipFill>
        <p:spPr>
          <a:xfrm>
            <a:off x="1200240" y="1371600"/>
            <a:ext cx="2871720" cy="2011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Samples 6 SA"/>
          <p:cNvPicPr/>
          <p:nvPr/>
        </p:nvPicPr>
        <p:blipFill>
          <a:blip r:embed="rId2"/>
          <a:stretch/>
        </p:blipFill>
        <p:spPr>
          <a:xfrm>
            <a:off x="4800600" y="1371600"/>
            <a:ext cx="2819520" cy="2011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Samples 8 SA"/>
          <p:cNvPicPr/>
          <p:nvPr/>
        </p:nvPicPr>
        <p:blipFill>
          <a:blip r:embed="rId3"/>
          <a:stretch/>
        </p:blipFill>
        <p:spPr>
          <a:xfrm>
            <a:off x="152280" y="3886200"/>
            <a:ext cx="2743200" cy="2198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Samples 4 SA"/>
          <p:cNvPicPr/>
          <p:nvPr/>
        </p:nvPicPr>
        <p:blipFill>
          <a:blip r:embed="rId4"/>
          <a:stretch/>
        </p:blipFill>
        <p:spPr>
          <a:xfrm>
            <a:off x="3200400" y="3886200"/>
            <a:ext cx="2743200" cy="1731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Samples 3 SA"/>
          <p:cNvPicPr/>
          <p:nvPr/>
        </p:nvPicPr>
        <p:blipFill>
          <a:blip r:embed="rId5"/>
          <a:stretch/>
        </p:blipFill>
        <p:spPr>
          <a:xfrm>
            <a:off x="6324480" y="3886200"/>
            <a:ext cx="2743200" cy="16081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7772400" y="6583320"/>
            <a:ext cx="12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39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7ac"/>
                </a:solidFill>
                <a:latin typeface="Arial"/>
              </a:rPr>
              <a:t>Participants will review their handouts and note issues that are unclear, or that are in their view very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39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7ac"/>
                </a:solidFill>
                <a:latin typeface="Arial"/>
              </a:rPr>
              <a:t>There will then be a plenary discussion during which participants can suggest additions to the quality check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39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: Review of Quality Checklists</a:t>
            </a:r>
            <a:endParaRPr b="1" lang="en-US" sz="2400" spc="-1" strike="noStrike">
              <a:solidFill>
                <a:srgbClr val="0067ab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772400" y="6583320"/>
            <a:ext cx="12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108160"/>
            <a:ext cx="894096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937"/>
                </a:solidFill>
                <a:latin typeface="Arial"/>
              </a:rPr>
              <a:t>Elements of Survey Reports</a:t>
            </a:r>
            <a:endParaRPr b="1" lang="en-US" sz="3600" spc="-1" strike="noStrike">
              <a:solidFill>
                <a:srgbClr val="0067a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s of Baseline and Monitoring Reports</a:t>
            </a:r>
            <a:endParaRPr b="1" lang="en-US" sz="2400" spc="-1" strike="noStrike">
              <a:solidFill>
                <a:srgbClr val="0067ab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90720" y="1447920"/>
          <a:ext cx="6858000" cy="4073400"/>
        </p:xfrm>
        <a:graphic>
          <a:graphicData uri="http://schemas.openxmlformats.org/drawingml/2006/table">
            <a:tbl>
              <a:tblPr/>
              <a:tblGrid>
                <a:gridCol w="474480"/>
                <a:gridCol w="2546280"/>
                <a:gridCol w="2694240"/>
                <a:gridCol w="1143000"/>
              </a:tblGrid>
              <a:tr h="988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ent Baseline Re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ent Monitoring Re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ximum Pag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13, excluding other appendice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3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umma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umma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ogram Overview (Locations, Objectives, Proposed Activities, Beneficiaries, etc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ogram Overview (Locations, Objectives, Completed Activities, Beneficiaries, etc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rpose of Baseline Survey and Methodology (Establish Priorities and Target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rpose of Monitoring Survey and Methodology (Assess Progress Toward Target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in Findings: Priorities by Supervision Area and for the Program as a Who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in Findings: Accomplishments, Priorities by Supervision Area and for the Program as a Who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ction Plans and Goals/Coverage Targets for Key Indicato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ction Plans and Goals/Coverage Results (and Revised Targets) for Key Indicato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clusions and Next Ste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clusions and Recommend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ppendix (Photocopy of Summary Tabulation Table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ppendix (Photocopy of Summary Tabulation Table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5"/>
          <p:cNvSpPr/>
          <p:nvPr/>
        </p:nvSpPr>
        <p:spPr>
          <a:xfrm>
            <a:off x="7772400" y="6583320"/>
            <a:ext cx="12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19:57:06Z</dcterms:created>
  <dc:creator>Jenkins, Jennifer</dc:creator>
  <dc:description/>
  <dc:language>en-US</dc:language>
  <cp:lastModifiedBy>lucinda.l.young-turn</cp:lastModifiedBy>
  <dcterms:modified xsi:type="dcterms:W3CDTF">2011-06-27T17:58:23Z</dcterms:modified>
  <cp:revision>127</cp:revision>
  <dc:subject/>
  <dc:title>Slide 1</dc:title>
</cp:coreProperties>
</file>